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E06-09B8-40CF-B4A4-0F2F590D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A85-9A5D-47CF-B92B-CEC6CF37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C3B-1130-4131-90EE-A1F70F4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16F-9949-4DD8-BD0D-35F9B77F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96B-F61F-4DA2-B03D-8CFB622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C7D-E840-4172-A488-6A283BAE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ED02-5CB2-4A79-AC33-19AE09B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D21-E8AA-41AE-B4BE-9DD08853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1DAB-7CF9-4DA6-8864-20251871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EBC8-FA93-462F-B6F6-992CFCFC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37B-9E3F-49B3-AF38-9A9DCB7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9BA-AC05-41A6-8D5B-87CD60DF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406-48E4-4A6D-9D1F-A9F6E04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FA14-4052-4392-B872-3688C10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AB9-EBC0-4C15-ABAF-5627AB9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5472-572F-49C9-8E29-1D6F25E6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2D6-2B71-40F1-8269-1F8720B3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1C4-12E3-4BDF-8AEE-FCF19FFA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349-A959-45AA-8D71-56F16F0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AE0-E9AB-4B41-90F5-E63AE785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1F7-5916-453E-9114-AA5B1DF5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FEA-12D6-4EF8-804E-15F0AB2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312-47DA-4528-AA03-AD40C0D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9B2-5CF8-4F39-AE18-9209B778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F2EE-962F-4469-8184-8751A87C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1" marL="668520" indent="-2570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2" marL="1028520" indent="-2055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3" marL="1440000" indent="-20556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4" marL="1851480" indent="-2055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5" marL="1851480" indent="-20556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6" marL="1851480" indent="-20556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lue Highway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C71A-F70C-4FEA-9508-FD66DB07B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lvl="2" marL="91440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3" marL="1371600" algn="ctr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4" marL="18288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ansomeverglades.rubiconatlas.org/" TargetMode="External"/><Relationship Id="rId2" Type="http://schemas.openxmlformats.org/officeDocument/2006/relationships/hyperlink" Target="http://fl.rubiconatlas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905120"/>
            <a:ext cx="7239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lue Highway"/>
              </a:rPr>
              <a:t>Curriculum Mapping Overview</a:t>
            </a:r>
            <a:endParaRPr b="1" lang="en-US" sz="5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Ransom Everglades School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Faculty Rollout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February 18, 2009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3024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693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What is a Curriculum Map?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694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fluid, organic document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DONE” is a four letter word in ATLA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venue to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report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and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communicate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what we teach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conversation piece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to promote discussion of what we teach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tool to facilitate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the study of our curriculum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implementation of curricular initiative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interdisciplinary learning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transitions in teaching assignment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conversations between groups of teachers, departments, grade levels, full faculty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ATLAS Curriculum Maps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ATLAS is web based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ATLAS is customized to needs and preferences of Ransom Everglade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Elements of the Map: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Essential Themes and Objective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Content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Essential Skil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School Improvement Plan (SIP)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Resources and Materia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lue Highway"/>
                <a:hlinkClick r:id="rId1"/>
              </a:rPr>
              <a:t>Ransom Everglades Map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lue Highway"/>
                <a:hlinkClick r:id="rId2"/>
              </a:rPr>
              <a:t>ATLAS Test Drive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-31680"/>
            <a:ext cx="8610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3:35:24Z</dcterms:created>
  <dc:creator>Ransom</dc:creator>
  <dc:description/>
  <dc:language>en-US</dc:language>
  <cp:lastModifiedBy>Ransom</cp:lastModifiedBy>
  <dcterms:modified xsi:type="dcterms:W3CDTF">2009-02-18T19:22:20Z</dcterms:modified>
  <cp:revision>14</cp:revision>
  <dc:subject/>
  <dc:title>Curriculum Mapping Overview</dc:title>
</cp:coreProperties>
</file>